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A89-E5A8-40B8-8E4A-05C94AA1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E70-B562-4114-A2CA-8D17B4F6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44D-3781-4FEF-A4D6-8C556B13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F81-2D45-4245-9128-3C959CB4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1A0-5954-4F45-A4CF-B2FAF799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864-D19A-44D2-B311-25861ECF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2C9-E9C5-4035-92A1-4461DACA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323-E8A8-4A64-8CA8-0CAF7F82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98D-E63E-49BB-86E5-74AF91A6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222-412E-4297-9BCF-A8B2171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BAF-DF38-42D7-8B00-DA8019BD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E64-E552-4FE7-87B4-C49A9AD3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8704-E47C-4E37-A2E4-554ACE876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and Negative Ex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1337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6765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Zero and Negative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655640"/>
            <a:ext cx="845820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715000" cy="81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838440" cy="726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733920" y="1219320"/>
            <a:ext cx="1904760" cy="62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8610480" cy="83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44197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44197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434340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3434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434340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2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1066680" cy="596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86200" y="114300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2578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703440"/>
            <a:ext cx="9372600" cy="1353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ing Exponential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968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19810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19810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24680" y="19810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4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534520" cy="2546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4419720"/>
            <a:ext cx="86868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281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4:30:25Z</dcterms:created>
  <dc:creator>Susannah Graham</dc:creator>
  <dc:description/>
  <dc:language>en-US</dc:language>
  <cp:lastModifiedBy>Susannah Graham</cp:lastModifiedBy>
  <dcterms:modified xsi:type="dcterms:W3CDTF">2009-08-04T22:14:47Z</dcterms:modified>
  <cp:revision>3</cp:revision>
  <dc:subject/>
  <dc:title>Lesson 8.1 Zero and Negative Exponents</dc:title>
</cp:coreProperties>
</file>